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33F-0018-4368-AAD4-DCA4485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71B-4014-4C8F-94B7-B4537F0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546-E739-41F9-A5F1-8255283F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E77-FA57-4C9A-AEBA-6B1BDDE5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A1C-977D-4F23-9CA3-878189C8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9F5-A74B-4157-8422-A9787FE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895-9EDF-42E7-9FAD-F9466AB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99E-B77A-4BA1-A6C7-02175AEB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2E8-33AB-4C91-B2DB-E608B3EF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9B3-4DCC-47F8-890E-4749193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1DC-035E-461A-BD52-5847765B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E9B-62C3-4D6A-B5EB-9FEF4DB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BFE7-9CFD-4A0B-8A2B-46EEFBF8EA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  END  ASSOC                   WEST  END  ASSOC.         EDINBURGH  EX  PRESIDENTS        EX  PRESIDENTS              EX  PRESIDENTS  75TH            EDINBURGH  SECRET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0" descr="West End Assoc 2.JPG"/>
          <p:cNvPicPr/>
          <p:nvPr/>
        </p:nvPicPr>
        <p:blipFill>
          <a:blip r:embed="rId1"/>
          <a:stretch/>
        </p:blipFill>
        <p:spPr>
          <a:xfrm>
            <a:off x="1857240" y="260280"/>
            <a:ext cx="1133640" cy="1244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1" descr="Edinburgh Ex Presidents.JPG"/>
          <p:cNvPicPr/>
          <p:nvPr/>
        </p:nvPicPr>
        <p:blipFill>
          <a:blip r:embed="rId2"/>
          <a:stretch/>
        </p:blipFill>
        <p:spPr>
          <a:xfrm>
            <a:off x="3297240" y="189000"/>
            <a:ext cx="128124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Edinburgh Secretaries.JPG"/>
          <p:cNvPicPr/>
          <p:nvPr/>
        </p:nvPicPr>
        <p:blipFill>
          <a:blip r:embed="rId3"/>
          <a:stretch/>
        </p:blipFill>
        <p:spPr>
          <a:xfrm>
            <a:off x="7905600" y="189000"/>
            <a:ext cx="1024200" cy="128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Edinburgh Ex Pres. 75th.jpg"/>
          <p:cNvPicPr/>
          <p:nvPr/>
        </p:nvPicPr>
        <p:blipFill>
          <a:blip r:embed="rId4"/>
          <a:stretch/>
        </p:blipFill>
        <p:spPr>
          <a:xfrm>
            <a:off x="6105600" y="333360"/>
            <a:ext cx="1211040" cy="11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4" descr="Edinburgh Secretaries Millennium.JPG"/>
          <p:cNvPicPr/>
          <p:nvPr/>
        </p:nvPicPr>
        <p:blipFill>
          <a:blip r:embed="rId5"/>
          <a:stretch/>
        </p:blipFill>
        <p:spPr>
          <a:xfrm>
            <a:off x="200160" y="191628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Edinburgh Ex Pres. 2.jpg"/>
          <p:cNvPicPr/>
          <p:nvPr/>
        </p:nvPicPr>
        <p:blipFill>
          <a:blip r:embed="rId6"/>
          <a:stretch/>
        </p:blipFill>
        <p:spPr>
          <a:xfrm>
            <a:off x="4737240" y="333360"/>
            <a:ext cx="118080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West End  Assoc1.JPG"/>
          <p:cNvPicPr/>
          <p:nvPr/>
        </p:nvPicPr>
        <p:blipFill>
          <a:blip r:embed="rId7"/>
          <a:stretch/>
        </p:blipFill>
        <p:spPr>
          <a:xfrm>
            <a:off x="272880" y="33336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MILLENN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25:56Z</dcterms:modified>
  <cp:revision>26</cp:revision>
  <dc:subject/>
  <dc:title>Slide 1</dc:title>
</cp:coreProperties>
</file>